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CAAA-720C-4FB6-9AF9-7C82A186A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3F59-CE1D-47A6-973A-122E38DE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6D7C-356D-409F-9544-B49FD9CFE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0F37-C03A-4B97-BA31-B350EE2B0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25F0-2C09-4CC7-B464-9AD01C91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A57B-C4D2-4DD4-865B-3A0D8DCC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E98D-0AF5-4782-A4A5-FABCE2A6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A2EB-E7FD-4BAF-8F77-D865689F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9103-DA56-42C0-A5E9-D3FF1BCF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9290-2A91-4B85-970E-603011E6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397C-BDF1-4228-8C36-7127E38F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2E3D-F73B-4891-B8F8-7AA878CB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10F4-D87E-4052-A61C-B628D71D5E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656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12 The Spring Festiv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476280"/>
            <a:ext cx="6858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5.sweep out ----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扫掉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-----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，清除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又如，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Could you help me sweep out the du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6.hang up ----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把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----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挂起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又如，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You may hang up the map  on the blackbo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7.on both sides of ----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在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----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的两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又如，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There are some trees on both sides of the ro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8.make +n. +adj.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使得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-----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处于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-----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状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又如，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He tries to make his lesson lively and interesting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9. so that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通常和情态动词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can ,could ,may ,might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连用引导目的状语从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又如，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We got up early this morning so that we could catch up with the first b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10.set off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使爆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又如，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Be careful with the firework ;the spark could set them of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11.dress up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着装，打扮起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12.show respect to ----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向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-----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表示敬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又如，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We should respect to those who serve us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6 Language Study Useful Words and Expression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760" y="268884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Complete the following sentences by putting the Chinese in the brackets into 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7.Summarize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 Summarize what they have learned in this les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To learn the new words and useful phr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To understand  the text and learn some useful language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o learn the traditional festival in Ch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8 Homewor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ll in the bl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age 87.  1  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042920" y="1413000"/>
            <a:ext cx="5805720" cy="297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Grammar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复习状语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状语修饰动词、形容词、副词或整个句子。通常由副词、介词短语、动词不定式、分词和从句等担当。例如：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. Naturally , our grandparents were pleased to get our phone call . 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副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.  We worked hard , from sunrise to sunset . 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介词状短语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  To help my disabled aunt , I spend an hour working in her house every day . 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定式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.   Seen from a distance , the farmhouse looked deserted . 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过去分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  I know how to light a camp fire because I had done it before 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原因状语从句）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状语的位置比较灵活，可以位于句首、句末或句中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nough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作状语修饰形容词和副词时必须后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状语从句主要用来修饰主句或主句的谓语。一般可分为九大类，分别表示时间、地点、原因、目的、结果、条件、让步、比较和方式。尽管种类较多，但由于状语从句与汉语结构和用法相似，所以理解和掌握它并不难。状语从句的关键是要掌握引导不同状语从句的常用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连接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特殊的连接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即考点。现分别列举如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760" y="506160"/>
            <a:ext cx="822960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． 时间状语从句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常用引导词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hen, as, while, as soon as, while, before, after, since , till, until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特殊引导词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he minute, the moment, the second, every time, the da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he instant, immediately , directly, no sooner … than, hardly …when, scarcely … when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 didn’t realize how special my mother was until I became an adult.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hile John was watching TV, his wife was cooking.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he children ran away from the orchard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果园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 the moment they saw the guard.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No sooner had I arrived home than it began to rain.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Every time I listen to your advice, I get into trouble.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indefinite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15" dur="indefinite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． 地点状语从句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常用引导词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where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特殊引导词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wherever, anywhere, everywhere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Generally, air will be heavily polluted where there are factories.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Wherever you go, you should work hard.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21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． 原因状语从句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常用引导词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ecause, since, as, since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特殊引导词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eeing that, now that, in that, considering that, given that, considering that, 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y friends dislike me because I’m handsome and successful.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Now that everybody has come, let’s begin our conference.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he higher income tax is harmful in that it may discourage people from trying to earn more.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onsidering that he is no more than 12 years old, his height of 1.80 m is quite remarkable.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799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799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799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799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69120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教育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To improve the students’ speaking and reading abil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To make the students to learn the festivals in China and in foreign count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To learn the new words and useful phr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To make the students get a general idea of the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。条件状语从句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常用引导词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f, unless,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特殊引导词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s/so long as, only if, providing/provided that, suppose that, in case that, on condition that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e’ll start our project if the president agrees.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You will certainly succeed so long as you keep on trying.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rovided that there is no opposition, we shall hold the meeting here.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7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51" dur="12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97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687060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ractic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. John shut everybody out of the kitchen ______he could prepare his grand surprise for the party.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. which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          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. whe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             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. so tha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              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. as if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. I would appreciate it ________you call back this afternoon for the doctor’s appointment.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. until                          B. if                              C. when                        D. that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 As far as I am concerne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ducation is about learning and the more you lear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________.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. the more for life are you equipped      B. the more equipped for life you are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. the more life you are equipped for      D. you are equipped the more for life</a:t>
            </a:r>
            <a:br>
              <a:rPr sz="2000"/>
            </a:b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79280" y="681480"/>
            <a:ext cx="8031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4.After the war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a new school building was put up ________there had once been a theatre.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A. that                           B. where                       C. which                       D. when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5. —Is Mr. Sm ith in the office?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—Yes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________ he is in charge of the office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he must be there.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A. since                         B. however                    C. whether                    D. for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6. As your good friend, I will do ________help you.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A. that I can to         B. what I can to      C. all that I can             D. what I can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7.John may phone tonight. I don’t want to go out ________he phones.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A. as long as             B. in order to        C. in case               D. so that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8.Someone called me up in the middle of the night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but they hung up ________I could answer the phone.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A. as                      B. since            C. until                            D. before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9. —Don’t look down upon Bob. He has his own advantages.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—Oh, yes. ________others are weak, he is strong.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A. If                        B. When           C. Where                 D. Though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26400" y="1735920"/>
            <a:ext cx="789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10.It is ten years ________he smoked.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A. that                       B. when            C. since                 D. while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11.We must hurry up ________catch up with the last train.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A. that                       B. so that to        C. in order that              D. in order to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12.No matter ________hard it may be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I will carry it out.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A. what                   B. whatever        C. how                     D. however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13.________ you may do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you must do it well.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A. Which                    B. Whenever        C. Whatever                 D. When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14. —Are you thinking about going to New York for the holiday?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—No. But if I ________the time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I would definitely go.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A. have                        B. had           C. have had                   D. would have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15.________ you are so weak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you’d b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课堂时间有限</a:t>
            </a:r>
            <a:br>
              <a:rPr sz="4400"/>
            </a:b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希望同学们课后多多练习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下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3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7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69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教学重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6960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To make the students understand the festiv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How to make the students understand the text b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91056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教学难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69608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students are afraid of expressing themselves in English, so how to make them discuss in Englis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ffic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tep1 Greetings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t the whole class as usu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2 Lead-in Warming up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date of _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 spring festival/Thanksgiving Day/Christmas Day__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 on  the first day of the lunar Janu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 on the 25th of Dec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 on the fourth Thursday of Nove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2636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tep3 Learn the new words by reading then fill in the blank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4 Ask the students to read the text quickly and put the sentences into Engl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97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5 Explain the notes of the tex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 The Spring Festival is coming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s coming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进行时，表示将来要发生的事。例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ome , go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rrive , leave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ge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等可用进行时表将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如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y friend is leaving for Shangha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. no matter how---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无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又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o matter how difficult the question is ,we have to answer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另外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o matter wha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无论什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o matter who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无论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o matter where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无论哪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o matter when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无论何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ry to do ---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尽量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设法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又如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We try to help the old man to find his way home. 4.prepare for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做准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又如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We are preparing for the English ex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7-10-27T06:37:4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